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Click to move the slide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dt" idx="7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8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9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19D65DE-9AC2-4C39-8964-DAE4B7C9B7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sldNum" idx="1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C70EE10-705A-40CF-819D-6F6CDDD14516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34081-0351-460E-8AD3-6D5858379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60080"/>
            <a:ext cx="822924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5C33E-1305-4588-9715-3811531AD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6008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6008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42255-E5DA-46F6-A480-F5736C9A7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60080"/>
            <a:ext cx="26496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60080"/>
            <a:ext cx="26496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60080"/>
            <a:ext cx="26496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25D8D-AFC0-493D-95B3-157FF0C9E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8E4AA-B6C8-4575-96D2-D9F1FEE28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7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F29B1-A706-4FED-BF22-2F5255C13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7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42335-D00C-40B3-BD98-35588C73F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7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7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4608A-5AC4-470B-9DB2-2C8D0544E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52866-E5D9-408F-82C0-417D27968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7B5F6-0D24-449F-A061-3D08300E4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7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6008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C2532-33B0-4353-A64B-8D63C799A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7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1765E-044F-4788-9B5C-ECEC8B03A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7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6008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A2003-E3CC-43D8-91DF-343CE8D1E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60080"/>
            <a:ext cx="822924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9231D-1138-4067-A568-BCB9F7A13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60080"/>
            <a:ext cx="822924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3726A-FF46-4644-A530-8E108997F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6008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6008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49588-D180-411D-B184-B322F7058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60080"/>
            <a:ext cx="26496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60080"/>
            <a:ext cx="26496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60080"/>
            <a:ext cx="26496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1AF40-5E00-491C-AED5-1AA31B1BB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7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15E76-A5A3-44E0-8F4E-462D93B2B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7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7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43119-8DEA-4513-9C7A-CEC9BC36C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DD317-DC05-4E2F-9002-E9EC68B9D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09675-B4F6-48F1-B745-90756856D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7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6008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2E764-7F24-4C6F-B5FE-CDEF57E1C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7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6008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B451F-0A5F-4A2C-ABDD-C05EF446C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60080"/>
            <a:ext cx="822924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BABF1-6D77-443C-9B7B-03D3F1840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1920" y="1371600"/>
            <a:ext cx="8229240" cy="182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CA" sz="4800" spc="-1" strike="noStrike" cap="all">
                <a:solidFill>
                  <a:srgbClr val="000000"/>
                </a:solidFill>
                <a:latin typeface="Lucida Sans"/>
              </a:rPr>
              <a:t>Click to edit Master title style</a:t>
            </a:r>
            <a:endParaRPr b="0" lang="en-US" sz="4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41664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924680" y="641664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F82365F-D60F-4552-A1A4-EB070DA274FA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CA" sz="4100" spc="-1" strike="noStrike">
                <a:solidFill>
                  <a:srgbClr val="000000"/>
                </a:solidFill>
                <a:latin typeface="Lucida Sans"/>
              </a:rPr>
              <a:t>Click to edit Master title style</a:t>
            </a:r>
            <a:endParaRPr b="0" lang="en-US" sz="41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70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548640" indent="-41148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en-CA" sz="2800" spc="-1" strike="noStrike">
                <a:solidFill>
                  <a:srgbClr val="ffffff"/>
                </a:solidFill>
                <a:latin typeface="Book Antiqua"/>
              </a:rPr>
              <a:t>Click to edit Master text style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680" indent="-28332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80000"/>
              <a:buFont typeface="Wingdings 2" charset="2"/>
              <a:buChar char=""/>
            </a:pPr>
            <a:r>
              <a:rPr b="0" lang="en-CA" sz="2400" spc="-1" strike="noStrike">
                <a:solidFill>
                  <a:srgbClr val="ffffff"/>
                </a:solidFill>
                <a:latin typeface="Book Antiqua"/>
              </a:rPr>
              <a:t>Second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1134000" indent="-228600">
              <a:lnSpc>
                <a:spcPct val="100000"/>
              </a:lnSpc>
              <a:spcBef>
                <a:spcPts val="439"/>
              </a:spcBef>
              <a:buClr>
                <a:srgbClr val="ffffff"/>
              </a:buClr>
              <a:buSzPct val="95000"/>
              <a:buFont typeface="Wingdings" charset="2"/>
              <a:buChar char=""/>
            </a:pPr>
            <a:r>
              <a:rPr b="0" lang="en-CA" sz="2200" spc="-1" strike="noStrike">
                <a:solidFill>
                  <a:srgbClr val="ffffff"/>
                </a:solidFill>
                <a:latin typeface="Book Antiqua"/>
              </a:rPr>
              <a:t>Third level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3" marL="1353240" indent="-18288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Wingdings 3" charset="2"/>
              <a:buChar char=""/>
            </a:pPr>
            <a:r>
              <a:rPr b="0" lang="en-CA" sz="2000" spc="-1" strike="noStrike">
                <a:solidFill>
                  <a:srgbClr val="ffffff"/>
                </a:solidFill>
                <a:latin typeface="Book Antiqua"/>
              </a:rPr>
              <a:t>Fourth level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4" marL="1545480" indent="-18288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Wingdings 2" charset="2"/>
              <a:buChar char=""/>
            </a:pPr>
            <a:r>
              <a:rPr b="0" lang="en-CA" sz="2000" spc="-1" strike="noStrike">
                <a:solidFill>
                  <a:srgbClr val="ffffff"/>
                </a:solidFill>
                <a:latin typeface="Book Antiqua"/>
              </a:rPr>
              <a:t>Fifth level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41664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680" y="641664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AF1DC7F-D798-43D3-B0CB-C4DF1B9A0F3A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21920" y="1371600"/>
            <a:ext cx="8229240" cy="182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800" spc="-1" strike="noStrike" cap="all">
                <a:solidFill>
                  <a:srgbClr val="000000"/>
                </a:solidFill>
                <a:latin typeface="Lucida Sans"/>
              </a:rPr>
              <a:t>Spreadsheets Continued…</a:t>
            </a:r>
            <a:endParaRPr b="0" lang="en-US" sz="4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722520" y="5029200"/>
            <a:ext cx="7772040" cy="9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9000"/>
          </a:bodyPr>
          <a:p>
            <a:pPr indent="0" algn="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A: Shreya Raw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Email: srawal@ucalgary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91000"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000000"/>
                </a:solidFill>
                <a:latin typeface="Lucida Sans"/>
              </a:rPr>
              <a:t>Components of If-Else statement</a:t>
            </a:r>
            <a:endParaRPr b="0" lang="en-US" sz="41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70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548640" indent="-41148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Logic Condition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rue Statemen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alse Statemen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000000"/>
                </a:solidFill>
                <a:latin typeface="Lucida Sans"/>
              </a:rPr>
              <a:t>Syntax of If-Else statement</a:t>
            </a:r>
            <a:endParaRPr b="0" lang="en-US" sz="41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70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= IF(&lt;logic statement&gt;, &lt;true statement&gt;,  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&lt;false statement&gt;)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000000"/>
                </a:solidFill>
                <a:latin typeface="Lucida Sans"/>
              </a:rPr>
              <a:t>Examples</a:t>
            </a:r>
            <a:endParaRPr b="0" lang="en-US" sz="41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70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64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= IF(A2&lt;50, “Fail”, “Pass”)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64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= IF(A1&lt;50, “Fail, IF(A1&gt;80, “A”, “B”))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000000"/>
                </a:solidFill>
                <a:latin typeface="Lucida Sans"/>
              </a:rPr>
              <a:t>Note:</a:t>
            </a:r>
            <a:endParaRPr b="0" lang="en-US" sz="41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70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64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A statement can correspond to a number, or a string of characters by using double quotation marks (e.g. "yes", "true", "evaluation if false", etc.)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000000"/>
                </a:solidFill>
                <a:latin typeface="Lucida Sans"/>
              </a:rPr>
              <a:t>Examples</a:t>
            </a:r>
            <a:endParaRPr b="0" lang="en-US" sz="41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70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548640" indent="-41148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= IF(A1&lt;50, “Fail”, “Pass”)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680" indent="-28332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80000"/>
              <a:buFont typeface="Wingdings 2" charset="2"/>
              <a:buChar char=""/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A1 = 88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Book Antiqua"/>
              </a:rPr>
              <a:t>Pas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680" indent="-28332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80000"/>
              <a:buFont typeface="Wingdings 2" charset="2"/>
              <a:buChar char=""/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A1 = 43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Book Antiqua"/>
              </a:rPr>
              <a:t>Fai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680" indent="-28332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80000"/>
              <a:buFont typeface="Wingdings 2" charset="2"/>
              <a:buChar char=""/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A1 = 50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Book Antiqua"/>
              </a:rPr>
              <a:t>Pas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IF (A1&lt;50, “Fail”, IF(A1&gt;80, “A Grade”, B Grade”)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680" indent="-28332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80000"/>
              <a:buFont typeface="Wingdings 2" charset="2"/>
              <a:buChar char=""/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A1 = 88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Book Antiqua"/>
              </a:rPr>
              <a:t>A Grade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680" indent="-28332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80000"/>
              <a:buFont typeface="Wingdings 2" charset="2"/>
              <a:buChar char=""/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A1 = 43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Book Antiqua"/>
              </a:rPr>
              <a:t>Fai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680" indent="-28332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80000"/>
              <a:buFont typeface="Wingdings 2" charset="2"/>
              <a:buChar char=""/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A1 = 50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Book Antiqua"/>
              </a:rPr>
              <a:t>B Grade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000000"/>
                </a:solidFill>
                <a:latin typeface="Lucida Sans"/>
              </a:rPr>
              <a:t>More Examples:</a:t>
            </a:r>
            <a:endParaRPr b="0" lang="en-US" sz="41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70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548640" indent="-41148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IF (G2 = “Cat”, “Kitten”, (IF G2 = “Dog”,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“Puppy”, “Small Mammal”))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680" indent="-28332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80000"/>
              <a:buFont typeface="Wingdings 2" charset="2"/>
              <a:buChar char=""/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G2 = Cat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Book Antiqua"/>
              </a:rPr>
              <a:t>Kitten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680" indent="-28332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80000"/>
              <a:buFont typeface="Wingdings 2" charset="2"/>
              <a:buChar char=""/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G2 = Dog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Book Antiqua"/>
              </a:rPr>
              <a:t>Puppy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680" indent="-28332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80000"/>
              <a:buFont typeface="Wingdings 2" charset="2"/>
              <a:buChar char=""/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G2 = Bat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Book Antiqua"/>
              </a:rPr>
              <a:t>Small Mamma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680" indent="-28332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80000"/>
              <a:buFont typeface="Wingdings 2" charset="2"/>
              <a:buChar char=""/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G2 = Mouse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Book Antiqua"/>
              </a:rPr>
              <a:t>Small Mamma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000000"/>
                </a:solidFill>
                <a:latin typeface="Lucida Sans"/>
              </a:rPr>
              <a:t>Pivot Tables</a:t>
            </a:r>
            <a:endParaRPr b="0" lang="en-US" sz="41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70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548640" indent="-411480">
              <a:lnSpc>
                <a:spcPct val="100000"/>
              </a:lnSpc>
              <a:spcBef>
                <a:spcPts val="64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Pivot tables provide a mechanism to: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1" marL="868680" indent="-283320">
              <a:lnSpc>
                <a:spcPct val="100000"/>
              </a:lnSpc>
              <a:spcBef>
                <a:spcPts val="64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summarize data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1" marL="868680" indent="-283320">
              <a:lnSpc>
                <a:spcPct val="100000"/>
              </a:lnSpc>
              <a:spcBef>
                <a:spcPts val="64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makes it easier to analyze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1" marL="868680" indent="-283320">
              <a:lnSpc>
                <a:spcPct val="100000"/>
              </a:lnSpc>
              <a:spcBef>
                <a:spcPts val="64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makes it easier to present data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000000"/>
                </a:solidFill>
                <a:latin typeface="Lucida Sans"/>
              </a:rPr>
              <a:t>Example</a:t>
            </a:r>
            <a:endParaRPr b="0" lang="en-US" sz="41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70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22" name="Picture 3" descr=""/>
          <p:cNvPicPr/>
          <p:nvPr/>
        </p:nvPicPr>
        <p:blipFill>
          <a:blip r:embed="rId1"/>
          <a:stretch/>
        </p:blipFill>
        <p:spPr>
          <a:xfrm>
            <a:off x="762120" y="1828800"/>
            <a:ext cx="7619760" cy="38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000000"/>
                </a:solidFill>
                <a:latin typeface="Lucida Sans"/>
              </a:rPr>
              <a:t>Pivot Table</a:t>
            </a:r>
            <a:endParaRPr b="0" lang="en-US" sz="41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70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25" name="Picture 3" descr=""/>
          <p:cNvPicPr/>
          <p:nvPr/>
        </p:nvPicPr>
        <p:blipFill>
          <a:blip r:embed="rId1"/>
          <a:stretch/>
        </p:blipFill>
        <p:spPr>
          <a:xfrm>
            <a:off x="914400" y="2057400"/>
            <a:ext cx="7391160" cy="36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000000"/>
                </a:solidFill>
                <a:latin typeface="Lucida Sans"/>
              </a:rPr>
              <a:t>Killer Example:</a:t>
            </a:r>
            <a:endParaRPr b="0" lang="en-US" sz="41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70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548640" indent="-41148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IF (</a:t>
            </a:r>
            <a:r>
              <a:rPr b="0" lang="en-US" sz="2800" spc="-1" strike="noStrike">
                <a:solidFill>
                  <a:srgbClr val="ff0000"/>
                </a:solidFill>
                <a:latin typeface="Book Antiqua"/>
              </a:rPr>
              <a:t>A1 = “Bed”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, IF (</a:t>
            </a:r>
            <a:r>
              <a:rPr b="0" lang="en-US" sz="2800" spc="-1" strike="noStrike">
                <a:solidFill>
                  <a:srgbClr val="ff0000"/>
                </a:solidFill>
                <a:latin typeface="Book Antiqua"/>
              </a:rPr>
              <a:t>A2 = “Sofa”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, “You have sofa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nd bed”, IF (</a:t>
            </a:r>
            <a:r>
              <a:rPr b="0" lang="en-US" sz="2800" spc="-1" strike="noStrike">
                <a:solidFill>
                  <a:srgbClr val="ff0000"/>
                </a:solidFill>
                <a:latin typeface="Book Antiqua"/>
              </a:rPr>
              <a:t>A3 = “Chair”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, “You chair and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bed”, “You have bed but not chair or sofa”)),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“you do not have anything”)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1 = Bed, A2 = Sofa, A3 = Tabl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680" indent="-28332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80000"/>
              <a:buFont typeface="Wingdings 2" charset="2"/>
              <a:buChar char=""/>
            </a:pPr>
            <a:r>
              <a:rPr b="0" lang="en-US" sz="2400" spc="-1" strike="noStrike">
                <a:solidFill>
                  <a:srgbClr val="ff0000"/>
                </a:solidFill>
                <a:latin typeface="Book Antiqua"/>
              </a:rPr>
              <a:t>You have sofa and bed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1 = Bed, A2 = Table, A3 = Chair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680" indent="-28332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80000"/>
              <a:buFont typeface="Wingdings 2" charset="2"/>
              <a:buChar char=""/>
            </a:pPr>
            <a:r>
              <a:rPr b="0" lang="en-US" sz="2400" spc="-1" strike="noStrike">
                <a:solidFill>
                  <a:srgbClr val="ff0000"/>
                </a:solidFill>
                <a:latin typeface="Book Antiqua"/>
              </a:rPr>
              <a:t>You have chair and bed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000000"/>
                </a:solidFill>
                <a:latin typeface="Lucida Sans"/>
              </a:rPr>
              <a:t>Custom Claculations</a:t>
            </a:r>
            <a:endParaRPr b="0" lang="en-US" sz="41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70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548640" indent="-41148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 custom calculation use the data associated with cells in a single worksheet, or across multiple worksheets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 custom calculation is specified in the function toolbar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Example: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680" indent="-28332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80000"/>
              <a:buFont typeface="Wingdings 2" charset="2"/>
              <a:buChar char=""/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= (A1 + A2 – E3 * B12)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680" indent="-28332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80000"/>
              <a:buFont typeface="Wingdings 2" charset="2"/>
              <a:buChar char=""/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= (P * N * R)/100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1134000" indent="-228600">
              <a:lnSpc>
                <a:spcPct val="100000"/>
              </a:lnSpc>
              <a:spcBef>
                <a:spcPts val="439"/>
              </a:spcBef>
              <a:buClr>
                <a:srgbClr val="ffffff"/>
              </a:buClr>
              <a:buSzPct val="95000"/>
              <a:buFont typeface="Wingdings" charset="2"/>
              <a:buChar char=""/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Where P, N, R can be cell values representing  Principal Amount, Number of Years and Rate of Interest.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000000"/>
                </a:solidFill>
                <a:latin typeface="Lucida Sans"/>
              </a:rPr>
              <a:t>Custom Calculations… (conti)</a:t>
            </a:r>
            <a:endParaRPr b="0" lang="en-US" sz="41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70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548640" indent="-41148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o refer cell or data in same worksheet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680" indent="-283320">
              <a:lnSpc>
                <a:spcPct val="100000"/>
              </a:lnSpc>
              <a:spcBef>
                <a:spcPts val="561"/>
              </a:spcBef>
              <a:buClr>
                <a:srgbClr val="ffffff"/>
              </a:buClr>
              <a:buSzPct val="80000"/>
              <a:buFont typeface="Wingdings 2" charset="2"/>
              <a:buChar char="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It is referred as column and row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680" indent="-283320">
              <a:lnSpc>
                <a:spcPct val="100000"/>
              </a:lnSpc>
              <a:spcBef>
                <a:spcPts val="561"/>
              </a:spcBef>
              <a:buClr>
                <a:srgbClr val="ffffff"/>
              </a:buClr>
              <a:buSzPct val="80000"/>
              <a:buFont typeface="Wingdings 2" charset="2"/>
              <a:buChar char="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Eg: A12, E5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o refer cell data from different worksheet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680" indent="-283320">
              <a:lnSpc>
                <a:spcPct val="100000"/>
              </a:lnSpc>
              <a:spcBef>
                <a:spcPts val="561"/>
              </a:spcBef>
              <a:buClr>
                <a:srgbClr val="ffffff"/>
              </a:buClr>
              <a:buSzPct val="80000"/>
              <a:buFont typeface="Wingdings 2" charset="2"/>
              <a:buChar char="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It is referred as sheet name, exclamation point (‘!’), and cell reference (F12)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680" indent="-283320">
              <a:lnSpc>
                <a:spcPct val="100000"/>
              </a:lnSpc>
              <a:spcBef>
                <a:spcPts val="561"/>
              </a:spcBef>
              <a:buClr>
                <a:srgbClr val="ffffff"/>
              </a:buClr>
              <a:buSzPct val="80000"/>
              <a:buFont typeface="Wingdings 2" charset="2"/>
              <a:buChar char="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Eg: Sheet2!F5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6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82000"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000000"/>
                </a:solidFill>
                <a:latin typeface="Lucida Sans"/>
              </a:rPr>
              <a:t>Steps to perform a custom calculation:</a:t>
            </a:r>
            <a:br>
              <a:rPr sz="4100"/>
            </a:br>
            <a:endParaRPr b="0" lang="en-US" sz="41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70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7000"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32080" indent="-39888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tep 1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42400" indent="-274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80000"/>
              <a:buFont typeface="Wingdings 2" charset="2"/>
              <a:buChar char=""/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lect the cell in which you would like the evaluation of the custom calculation to be displayed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32080" indent="-39888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tep 2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42400" indent="-274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80000"/>
              <a:buFont typeface="Wingdings 2" charset="2"/>
              <a:buChar char=""/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In the Function toolbar, enter the custom calculation by starting with the equals symbol '='.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32080" indent="-39888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tep 3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42400" indent="-274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80000"/>
              <a:buFont typeface="Wingdings 2" charset="2"/>
              <a:buChar char=""/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After entering the custom calculation, press the 'enter' key to evaluate the function. The result will appear in the cell that was originally selected.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000000"/>
                </a:solidFill>
                <a:latin typeface="Lucida Sans"/>
              </a:rPr>
              <a:t>Note:</a:t>
            </a:r>
            <a:endParaRPr b="0" lang="en-US" sz="41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70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548640" indent="-41148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 custom calculation can also include functions which are bundled with Excel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Example: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8686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= (SUM(A5:A10) * 50)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8686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= (AVERAGE(A22:A56) / COUNT(A22:A56))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91000"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000000"/>
                </a:solidFill>
                <a:latin typeface="Lucida Sans"/>
              </a:rPr>
              <a:t>Understanding If-Then statement</a:t>
            </a:r>
            <a:endParaRPr b="0" lang="en-US" sz="41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70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548640" indent="-41148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n If-Then statement answers the question "is this true or false?" and then performs a corresponding action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000000"/>
                </a:solidFill>
                <a:latin typeface="Lucida Sans"/>
              </a:rPr>
              <a:t>Example</a:t>
            </a:r>
            <a:endParaRPr b="0" lang="en-US" sz="41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70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64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If </a:t>
            </a:r>
            <a:r>
              <a:rPr b="0" lang="en-US" sz="3200" spc="-1" strike="noStrike">
                <a:solidFill>
                  <a:srgbClr val="ff0000"/>
                </a:solidFill>
                <a:latin typeface="Book Antiqua"/>
              </a:rPr>
              <a:t>it snows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8686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I will not go to schoo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8686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Else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8686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I will go to schoo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000000"/>
                </a:solidFill>
                <a:latin typeface="Lucida Sans"/>
              </a:rPr>
              <a:t>Example</a:t>
            </a:r>
            <a:endParaRPr b="0" lang="en-US" sz="41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70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548640" indent="-411480">
              <a:lnSpc>
                <a:spcPct val="100000"/>
              </a:lnSpc>
              <a:spcBef>
                <a:spcPts val="64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If </a:t>
            </a:r>
            <a:r>
              <a:rPr b="0" lang="en-US" sz="3200" spc="-1" strike="noStrike">
                <a:solidFill>
                  <a:srgbClr val="ff0000"/>
                </a:solidFill>
                <a:latin typeface="Book Antiqua"/>
              </a:rPr>
              <a:t>it snows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8686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I will go to gym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8686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Else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8686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If </a:t>
            </a:r>
            <a:r>
              <a:rPr b="0" lang="en-US" sz="3200" spc="-1" strike="noStrike">
                <a:solidFill>
                  <a:srgbClr val="ff0000"/>
                </a:solidFill>
                <a:latin typeface="Book Antiqua"/>
              </a:rPr>
              <a:t>temperature &lt; -25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8686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I will stay at home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8686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Else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8686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I will go to schoo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000000"/>
                </a:solidFill>
                <a:latin typeface="Lucida Sans"/>
              </a:rPr>
              <a:t>Note:</a:t>
            </a:r>
            <a:endParaRPr b="0" lang="en-US" sz="41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70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64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In nested If-Then statements, evaluations of inner-most statements occur first, and their evaluations are propagated to the outer-most statements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Apex">
  <a:themeElements>
    <a:clrScheme name="Apex">
      <a:dk1>
        <a:srgbClr val="000000"/>
      </a:dk1>
      <a:lt1>
        <a:srgbClr val="ffffff"/>
      </a:lt1>
      <a:dk2>
        <a:srgbClr val="69676d"/>
      </a:dk2>
      <a:lt2>
        <a:srgbClr val="c9c2d1"/>
      </a:lt2>
      <a:accent1>
        <a:srgbClr val="ceb966"/>
      </a:accent1>
      <a:accent2>
        <a:srgbClr val="9cb084"/>
      </a:accent2>
      <a:accent3>
        <a:srgbClr val="6bb1c9"/>
      </a:accent3>
      <a:accent4>
        <a:srgbClr val="6585cf"/>
      </a:accent4>
      <a:accent5>
        <a:srgbClr val="7e6bc9"/>
      </a:accent5>
      <a:accent6>
        <a:srgbClr val="a379bb"/>
      </a:accent6>
      <a:hlink>
        <a:srgbClr val="410082"/>
      </a:hlink>
      <a:folHlink>
        <a:srgbClr val="93296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Apex">
  <a:themeElements>
    <a:clrScheme name="Apex">
      <a:dk1>
        <a:srgbClr val="000000"/>
      </a:dk1>
      <a:lt1>
        <a:srgbClr val="ffffff"/>
      </a:lt1>
      <a:dk2>
        <a:srgbClr val="69676d"/>
      </a:dk2>
      <a:lt2>
        <a:srgbClr val="c9c2d1"/>
      </a:lt2>
      <a:accent1>
        <a:srgbClr val="ceb966"/>
      </a:accent1>
      <a:accent2>
        <a:srgbClr val="9cb084"/>
      </a:accent2>
      <a:accent3>
        <a:srgbClr val="6bb1c9"/>
      </a:accent3>
      <a:accent4>
        <a:srgbClr val="6585cf"/>
      </a:accent4>
      <a:accent5>
        <a:srgbClr val="7e6bc9"/>
      </a:accent5>
      <a:accent6>
        <a:srgbClr val="a379bb"/>
      </a:accent6>
      <a:hlink>
        <a:srgbClr val="410082"/>
      </a:hlink>
      <a:folHlink>
        <a:srgbClr val="93296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69676d"/>
      </a:dk2>
      <a:lt2>
        <a:srgbClr val="c9c2d1"/>
      </a:lt2>
      <a:accent1>
        <a:srgbClr val="ceb966"/>
      </a:accent1>
      <a:accent2>
        <a:srgbClr val="9cb084"/>
      </a:accent2>
      <a:accent3>
        <a:srgbClr val="6bb1c9"/>
      </a:accent3>
      <a:accent4>
        <a:srgbClr val="6585cf"/>
      </a:accent4>
      <a:accent5>
        <a:srgbClr val="7e6bc9"/>
      </a:accent5>
      <a:accent6>
        <a:srgbClr val="a379bb"/>
      </a:accent6>
      <a:hlink>
        <a:srgbClr val="410082"/>
      </a:hlink>
      <a:folHlink>
        <a:srgbClr val="93296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Apex.thmx</Template>
  <TotalTime>104</TotalTime>
  <Application>LibreOffice/7.4.7.2$Linux_X86_64 LibreOffice_project/40$Build-2</Application>
  <AppVersion>15.0000</AppVersion>
  <Words>760</Words>
  <Paragraphs>99</Paragraphs>
  <Company>University of Calgary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1T19:26:32Z</dcterms:created>
  <dc:creator>Shreya Rawal</dc:creator>
  <dc:description/>
  <dc:language>en-US</dc:language>
  <cp:lastModifiedBy>Shreya Rawal</cp:lastModifiedBy>
  <dcterms:modified xsi:type="dcterms:W3CDTF">2009-01-21T19:36:04Z</dcterms:modified>
  <cp:revision>8</cp:revision>
  <dc:subject/>
  <dc:title>Spreadsheets Continued…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</vt:r8>
  </property>
  <property fmtid="{D5CDD505-2E9C-101B-9397-08002B2CF9AE}" pid="3" name="PresentationFormat">
    <vt:lpwstr>On-screen Show (4:3)</vt:lpwstr>
  </property>
  <property fmtid="{D5CDD505-2E9C-101B-9397-08002B2CF9AE}" pid="4" name="Slides">
    <vt:r8>19</vt:r8>
  </property>
</Properties>
</file>